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DF10-FAC0-4E85-99E4-132C04BD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2FB-DCC7-4587-9195-6701815C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C1D-20C2-42E3-946A-2C8C3863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690-7E69-41ED-9882-EEBEB500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E2D-618E-4C82-B17A-7AD3154D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55A8-38BD-407F-80AB-6DD1C47B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6CB4-BF4B-4B7D-9E3F-BF773201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1BB9-0853-4576-B00C-F225DB24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1F27-A364-4CC7-81F7-5FC62198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199-51F4-4E70-80CF-4D9C6973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4EC-9CA0-4745-B029-6B46B93C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89F-6E24-4C9B-9D0A-3FEF9FE9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C51E-A156-47F2-BABA-D1FC51A7F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990720" y="0"/>
            <a:ext cx="6019560" cy="6858000"/>
          </a:xfrm>
          <a:prstGeom prst="upArrow">
            <a:avLst>
              <a:gd name="adj1" fmla="val 50000"/>
              <a:gd name="adj2" fmla="val 28482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92480" y="-1494720"/>
            <a:ext cx="41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LOOM’S REVISED TAXON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648160" y="685800"/>
            <a:ext cx="4976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33ff"/>
                </a:solidFill>
                <a:latin typeface="Calibri"/>
                <a:ea typeface="Times New Roman"/>
              </a:rPr>
              <a:t>Creating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synthes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Generating new ideas, products, or ways of viewing thin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9933ff"/>
                </a:solidFill>
                <a:latin typeface="Calibri"/>
                <a:ea typeface="Times New Roman"/>
              </a:rPr>
              <a:t>Designing, constructing, planning, producing, inventin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581280" y="1828800"/>
            <a:ext cx="556272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Calibri"/>
              </a:rPr>
              <a:t>Evaluating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evalu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Justifying a decision or course of a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ff"/>
                </a:solidFill>
                <a:latin typeface="Calibri"/>
              </a:rPr>
              <a:t>Checking, hypothesising, critiquing, experimenting, judg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689560" y="2895840"/>
            <a:ext cx="644148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6600"/>
                </a:solidFill>
                <a:latin typeface="Calibri"/>
              </a:rPr>
              <a:t>Analysing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analysi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ing information into parts to explore understandings and relationshi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6600"/>
                </a:solidFill>
                <a:latin typeface="Calibri"/>
                <a:ea typeface="Times New Roman"/>
              </a:rPr>
              <a:t>Comparing, organising, deconstructing, interrogating, fin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210200" y="3886200"/>
            <a:ext cx="424800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ff"/>
                </a:solidFill>
                <a:latin typeface="Calibri"/>
              </a:rPr>
              <a:t>Applying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applic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Using information in another familiar situ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ff"/>
                </a:solidFill>
                <a:latin typeface="Calibri"/>
              </a:rPr>
              <a:t>Implementing, carrying out, using, execu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692800" y="4800600"/>
            <a:ext cx="537444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9900"/>
                </a:solidFill>
                <a:latin typeface="Calibri"/>
              </a:rPr>
              <a:t>Understanding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comprehens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xplaining ideas or concep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9900"/>
                </a:solidFill>
                <a:latin typeface="Calibri"/>
                <a:ea typeface="Times New Roman"/>
              </a:rPr>
              <a:t>Interpreting, summarising, paraphrasing, classifying, explain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730320" y="5791320"/>
            <a:ext cx="496152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Remembering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knowled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Recalling in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0000"/>
                </a:solidFill>
                <a:latin typeface="Calibri"/>
              </a:rPr>
              <a:t>Recognising, listing, describing, retrieving, naming, fin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0" descr="ict_logo_sm"/>
          <p:cNvPicPr/>
          <p:nvPr/>
        </p:nvPicPr>
        <p:blipFill>
          <a:blip r:embed="rId1"/>
          <a:stretch/>
        </p:blipFill>
        <p:spPr>
          <a:xfrm>
            <a:off x="0" y="0"/>
            <a:ext cx="1828800" cy="1231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 rot="16200000">
            <a:off x="-1740960" y="4226040"/>
            <a:ext cx="41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pa.org/ed/new_blooms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835240" y="228600"/>
            <a:ext cx="2601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Bloom’s Taxono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revis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3" descr=""/>
          <p:cNvPicPr/>
          <p:nvPr/>
        </p:nvPicPr>
        <p:blipFill>
          <a:blip r:embed="rId2"/>
          <a:stretch/>
        </p:blipFill>
        <p:spPr>
          <a:xfrm rot="16200000">
            <a:off x="-1527840" y="3584880"/>
            <a:ext cx="5638680" cy="906480"/>
          </a:xfrm>
          <a:prstGeom prst="rect">
            <a:avLst/>
          </a:prstGeom>
          <a:ln w="0">
            <a:noFill/>
          </a:ln>
        </p:spPr>
      </p:pic>
      <p:sp>
        <p:nvSpPr>
          <p:cNvPr id="53" name="Line 14"/>
          <p:cNvSpPr/>
          <p:nvPr/>
        </p:nvSpPr>
        <p:spPr>
          <a:xfrm>
            <a:off x="1752480" y="56386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1752480" y="39625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1752480" y="213372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4:34:34Z</dcterms:created>
  <dc:creator>Owner</dc:creator>
  <dc:description/>
  <dc:language>en-US</dc:language>
  <cp:lastModifiedBy>Owner</cp:lastModifiedBy>
  <dcterms:modified xsi:type="dcterms:W3CDTF">2010-03-10T04:35:07Z</dcterms:modified>
  <cp:revision>1</cp:revision>
  <dc:subject/>
  <dc:title>Slide 1</dc:title>
</cp:coreProperties>
</file>